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199B-EFAE-4465-9A5C-EF91F452D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3076-29CC-47D3-BEC1-1C88B78F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5946-586B-4AF4-9C9E-740AD474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8B98-ABE1-4885-B99D-2A8F5E00A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850F-9D1C-4CC3-99FD-CB236EC8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A01B-7797-4B00-98FE-961FB83A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C77A-5BAF-407A-850C-8D1C1893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C842-8F29-46A0-BDF3-7C0E08B2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3C09-89E9-46C0-9982-45CD7B60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B81F-A733-4BDC-80C3-E546FA10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EAC2-7070-4C87-BC2F-F3FAB5F3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C5EE-6207-4BC2-BCF2-B6788171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D774-BBB8-4436-BC9E-4DC997DDE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rebuchet MS"/>
              </a:rPr>
              <a:t>CHAPTER 1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351080"/>
            <a:ext cx="8610480" cy="50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Aft>
                <a:spcPts val="2837"/>
              </a:spcAft>
              <a:tabLst>
                <a:tab algn="l" pos="0"/>
                <a:tab algn="l" pos="4539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df300"/>
                </a:solidFill>
                <a:latin typeface="Times New Roman"/>
              </a:rPr>
              <a:t>Section 1:</a:t>
            </a:r>
            <a:r>
              <a:rPr b="1" lang="en-US" sz="3500" spc="-1" strike="noStrike">
                <a:solidFill>
                  <a:srgbClr val="3399ff"/>
                </a:solidFill>
                <a:latin typeface="Times New Roman"/>
              </a:rPr>
              <a:t>	</a:t>
            </a: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The Crusades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2837"/>
              </a:spcAft>
              <a:tabLst>
                <a:tab algn="l" pos="0"/>
                <a:tab algn="l" pos="4539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9007"/>
                </a:solidFill>
                <a:latin typeface="Times New Roman"/>
              </a:rPr>
              <a:t>Section 2:</a:t>
            </a:r>
            <a:r>
              <a:rPr b="1" lang="en-US" sz="35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The Revival of Tra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2837"/>
              </a:spcAft>
              <a:tabLst>
                <a:tab algn="l" pos="0"/>
                <a:tab algn="l" pos="4539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98cff"/>
                </a:solidFill>
                <a:latin typeface="Times New Roman"/>
              </a:rPr>
              <a:t>Section 3: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The Growth of Tow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2837"/>
              </a:spcAft>
              <a:tabLst>
                <a:tab algn="l" pos="0"/>
                <a:tab algn="l" pos="4539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71073"/>
                </a:solidFill>
                <a:latin typeface="Times New Roman"/>
              </a:rPr>
              <a:t>Section 4:</a:t>
            </a:r>
            <a:r>
              <a:rPr b="1" lang="en-US" sz="35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Life and Culture in the </a:t>
            </a:r>
            <a:br>
              <a:rPr sz="3500"/>
            </a:b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Middle Ag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2837"/>
              </a:spcAft>
              <a:tabLst>
                <a:tab algn="l" pos="0"/>
                <a:tab algn="l" pos="4539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bd10"/>
                </a:solidFill>
                <a:latin typeface="Times New Roman"/>
              </a:rPr>
              <a:t>Section 5:</a:t>
            </a:r>
            <a:r>
              <a:rPr b="1" lang="en-US" sz="35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Wars and the Growth of </a:t>
            </a: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Nati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2837"/>
              </a:spcAft>
              <a:tabLst>
                <a:tab algn="l" pos="0"/>
                <a:tab algn="l" pos="4539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8c"/>
                </a:solidFill>
                <a:latin typeface="Times New Roman"/>
              </a:rPr>
              <a:t>Section 6:</a:t>
            </a:r>
            <a:r>
              <a:rPr b="1" lang="en-US" sz="35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Challenges to Church Pow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609480"/>
            <a:ext cx="7543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High Middle 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04920" y="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rebuchet MS"/>
              </a:rPr>
              <a:t>SECTION 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14560" y="1676520"/>
            <a:ext cx="71913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bd10"/>
                </a:solidFill>
                <a:latin typeface="Times New Roman"/>
              </a:rPr>
              <a:t>Question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events led to the rise of the Habsburg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3360" y="609480"/>
            <a:ext cx="5486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Wars and the Growth of N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04920" y="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rebuchet MS"/>
              </a:rPr>
              <a:t>SECTION 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3360" y="609480"/>
            <a:ext cx="5486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Wars and the Growth of N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238560" y="5079960"/>
            <a:ext cx="2662200" cy="939960"/>
            <a:chOff x="3238560" y="5079960"/>
            <a:chExt cx="2662200" cy="939960"/>
          </a:xfrm>
        </p:grpSpPr>
        <p:sp>
          <p:nvSpPr>
            <p:cNvPr id="168" name=""/>
            <p:cNvSpPr/>
            <p:nvPr/>
          </p:nvSpPr>
          <p:spPr>
            <a:xfrm>
              <a:off x="3238560" y="5079960"/>
              <a:ext cx="2662200" cy="93996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34cb00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03720" y="5178600"/>
              <a:ext cx="2525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9007b"/>
                  </a:solidFill>
                  <a:latin typeface="Arial"/>
                </a:rPr>
                <a:t>The Habsburgs became the most powerful family in Europ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838080" y="1828800"/>
            <a:ext cx="3889440" cy="762120"/>
            <a:chOff x="838080" y="1828800"/>
            <a:chExt cx="3889440" cy="762120"/>
          </a:xfrm>
        </p:grpSpPr>
        <p:sp>
          <p:nvSpPr>
            <p:cNvPr id="171" name=""/>
            <p:cNvSpPr/>
            <p:nvPr/>
          </p:nvSpPr>
          <p:spPr>
            <a:xfrm>
              <a:off x="838080" y="1828800"/>
              <a:ext cx="2514600" cy="7621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34cb00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84160" y="1927080"/>
              <a:ext cx="2373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9007b"/>
                  </a:solidFill>
                  <a:latin typeface="Arial"/>
                </a:rPr>
                <a:t>A Habsburg was elected emperor in 1273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97400" y="2286000"/>
              <a:ext cx="1230120" cy="0"/>
            </a:xfrm>
            <a:prstGeom prst="line">
              <a:avLst/>
            </a:prstGeom>
            <a:ln w="28440">
              <a:solidFill>
                <a:srgbClr val="ffce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113080" y="3465360"/>
            <a:ext cx="3192840" cy="1516320"/>
            <a:chOff x="5113080" y="3465360"/>
            <a:chExt cx="3192840" cy="1516320"/>
          </a:xfrm>
        </p:grpSpPr>
        <p:sp>
          <p:nvSpPr>
            <p:cNvPr id="175" name=""/>
            <p:cNvSpPr/>
            <p:nvPr/>
          </p:nvSpPr>
          <p:spPr>
            <a:xfrm>
              <a:off x="5257800" y="3465360"/>
              <a:ext cx="3048120" cy="9828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34cb00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67160" y="3578400"/>
              <a:ext cx="2976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9007b"/>
                  </a:solidFill>
                  <a:latin typeface="Arial"/>
                </a:rPr>
                <a:t>More well-planned marriages gave the Habsburgs control of much of the empire’s territory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5113080" y="4551480"/>
              <a:ext cx="685800" cy="430200"/>
            </a:xfrm>
            <a:prstGeom prst="line">
              <a:avLst/>
            </a:prstGeom>
            <a:ln w="28440">
              <a:solidFill>
                <a:srgbClr val="ffce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809520" y="1828800"/>
            <a:ext cx="3810600" cy="1676520"/>
            <a:chOff x="3809520" y="1828800"/>
            <a:chExt cx="3810600" cy="1676520"/>
          </a:xfrm>
        </p:grpSpPr>
        <p:sp>
          <p:nvSpPr>
            <p:cNvPr id="179" name=""/>
            <p:cNvSpPr/>
            <p:nvPr/>
          </p:nvSpPr>
          <p:spPr>
            <a:xfrm>
              <a:off x="4883040" y="1828800"/>
              <a:ext cx="2737080" cy="11430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34cb00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76640" y="1913040"/>
              <a:ext cx="2519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9007b"/>
                  </a:solidFill>
                  <a:latin typeface="Arial"/>
                </a:rPr>
                <a:t>The Habsburgs used their position to arrange marriages with powerful familie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809520" y="2847960"/>
              <a:ext cx="933480" cy="657360"/>
            </a:xfrm>
            <a:prstGeom prst="line">
              <a:avLst/>
            </a:prstGeom>
            <a:ln w="28440">
              <a:solidFill>
                <a:srgbClr val="ffce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143000" y="3352680"/>
            <a:ext cx="3936960" cy="1143000"/>
            <a:chOff x="1143000" y="3352680"/>
            <a:chExt cx="3936960" cy="1143000"/>
          </a:xfrm>
        </p:grpSpPr>
        <p:sp>
          <p:nvSpPr>
            <p:cNvPr id="183" name=""/>
            <p:cNvSpPr/>
            <p:nvPr/>
          </p:nvSpPr>
          <p:spPr>
            <a:xfrm>
              <a:off x="1143000" y="3352680"/>
              <a:ext cx="2514600" cy="11430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34cb00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06360" y="3436920"/>
              <a:ext cx="23749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9007b"/>
                  </a:solidFill>
                  <a:latin typeface="Arial"/>
                </a:rPr>
                <a:t>Through marriage the Habsburg family gained control of Austria and nearby land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32200" y="3886200"/>
              <a:ext cx="1247760" cy="0"/>
            </a:xfrm>
            <a:prstGeom prst="line">
              <a:avLst/>
            </a:prstGeom>
            <a:ln w="28440">
              <a:solidFill>
                <a:srgbClr val="ffce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04920" y="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rebuchet MS"/>
              </a:rPr>
              <a:t>SECTION 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14560" y="1676520"/>
            <a:ext cx="719136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Question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 what ways were John Wycliffe and Jan Hus alike and differ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609480"/>
            <a:ext cx="7543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allenges to Church 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04920" y="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rebuchet MS"/>
              </a:rPr>
              <a:t>SECTION 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609480"/>
            <a:ext cx="7543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allenges to Church 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09480" y="2819520"/>
            <a:ext cx="8077320" cy="2361960"/>
            <a:chOff x="609480" y="2819520"/>
            <a:chExt cx="8077320" cy="2361960"/>
          </a:xfrm>
        </p:grpSpPr>
        <p:sp>
          <p:nvSpPr>
            <p:cNvPr id="194" name=""/>
            <p:cNvSpPr/>
            <p:nvPr/>
          </p:nvSpPr>
          <p:spPr>
            <a:xfrm>
              <a:off x="736560" y="2971800"/>
              <a:ext cx="5511960" cy="2209680"/>
            </a:xfrm>
            <a:prstGeom prst="ellipse">
              <a:avLst/>
            </a:prstGeom>
            <a:solidFill>
              <a:srgbClr val="0f01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74840" y="2971800"/>
              <a:ext cx="5511960" cy="2209680"/>
            </a:xfrm>
            <a:prstGeom prst="ellipse">
              <a:avLst/>
            </a:prstGeom>
            <a:solidFill>
              <a:srgbClr val="0f01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9480" y="2819520"/>
              <a:ext cx="5511960" cy="2209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048120" y="2819520"/>
              <a:ext cx="5511600" cy="2209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9480" y="2819520"/>
              <a:ext cx="5511960" cy="2209680"/>
            </a:xfrm>
            <a:prstGeom prst="ellipse">
              <a:avLst/>
            </a:prstGeom>
            <a:noFill/>
            <a:ln w="50760">
              <a:solidFill>
                <a:srgbClr val="ff90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48120" y="2819520"/>
              <a:ext cx="5511600" cy="2209680"/>
            </a:xfrm>
            <a:prstGeom prst="ellipse">
              <a:avLst/>
            </a:prstGeom>
            <a:noFill/>
            <a:ln w="50760">
              <a:solidFill>
                <a:srgbClr val="ff90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085840" y="2971800"/>
            <a:ext cx="14194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00063"/>
                </a:solidFill>
                <a:latin typeface="Symbol"/>
                <a:ea typeface="Symbol"/>
              </a:rPr>
              <a:t></a:t>
            </a:r>
            <a:r>
              <a:rPr b="1" lang="en-US" sz="1500" spc="-1" strike="noStrike">
                <a:solidFill>
                  <a:srgbClr val="100063"/>
                </a:solidFill>
                <a:latin typeface="Arial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100063"/>
                </a:solidFill>
                <a:latin typeface="Arial"/>
              </a:rPr>
              <a:t>royal court defended </a:t>
            </a:r>
            <a:br>
              <a:rPr sz="1500"/>
            </a:br>
            <a:r>
              <a:rPr b="1" lang="en-US" sz="1500" spc="-1" strike="noStrike">
                <a:solidFill>
                  <a:srgbClr val="100063"/>
                </a:solidFill>
                <a:latin typeface="Arial"/>
              </a:rPr>
              <a:t>hi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48520" y="3125880"/>
            <a:ext cx="14475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00063"/>
                </a:solidFill>
                <a:latin typeface="Symbol"/>
                <a:ea typeface="Symbol"/>
              </a:rPr>
              <a:t></a:t>
            </a:r>
            <a:r>
              <a:rPr b="1" lang="en-US" sz="1500" spc="-1" strike="noStrike">
                <a:solidFill>
                  <a:srgbClr val="100063"/>
                </a:solidFill>
                <a:latin typeface="Arial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100063"/>
                </a:solidFill>
                <a:latin typeface="Symbol"/>
                <a:ea typeface="Symbol"/>
              </a:rPr>
              <a:t></a:t>
            </a:r>
            <a:r>
              <a:rPr b="1" lang="en-US" sz="1500" spc="-1" strike="noStrike">
                <a:solidFill>
                  <a:srgbClr val="100063"/>
                </a:solidFill>
                <a:latin typeface="Arial"/>
              </a:rPr>
              <a:t>angered cler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67280" y="3159000"/>
            <a:ext cx="1190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00063"/>
                </a:solidFill>
                <a:latin typeface="Symbol"/>
                <a:ea typeface="Symbol"/>
              </a:rPr>
              <a:t></a:t>
            </a:r>
            <a:r>
              <a:rPr b="1" lang="en-US" sz="1500" spc="-1" strike="noStrike">
                <a:solidFill>
                  <a:srgbClr val="100063"/>
                </a:solidFill>
                <a:latin typeface="Arial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100063"/>
                </a:solidFill>
                <a:latin typeface="Symbol"/>
                <a:ea typeface="Symbol"/>
              </a:rPr>
              <a:t></a:t>
            </a:r>
            <a:r>
              <a:rPr b="1" lang="en-US" sz="1500" spc="-1" strike="noStrike">
                <a:solidFill>
                  <a:srgbClr val="100063"/>
                </a:solidFill>
                <a:latin typeface="Arial"/>
              </a:rPr>
              <a:t>teac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752480" y="2057400"/>
            <a:ext cx="2362320" cy="457200"/>
            <a:chOff x="1752480" y="2057400"/>
            <a:chExt cx="2362320" cy="457200"/>
          </a:xfrm>
        </p:grpSpPr>
        <p:sp>
          <p:nvSpPr>
            <p:cNvPr id="204" name=""/>
            <p:cNvSpPr/>
            <p:nvPr/>
          </p:nvSpPr>
          <p:spPr>
            <a:xfrm>
              <a:off x="1752480" y="2057400"/>
              <a:ext cx="236232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cce29"/>
                </a:gs>
              </a:gsLst>
              <a:lin ang="5400000"/>
            </a:gradFill>
            <a:ln w="38160">
              <a:solidFill>
                <a:srgbClr val="ff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30240" y="2133720"/>
              <a:ext cx="2224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e40011"/>
                  </a:solidFill>
                  <a:latin typeface="Arial"/>
                </a:rPr>
                <a:t>John Wycliff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029200" y="2057400"/>
            <a:ext cx="2362320" cy="457200"/>
            <a:chOff x="5029200" y="2057400"/>
            <a:chExt cx="2362320" cy="457200"/>
          </a:xfrm>
        </p:grpSpPr>
        <p:sp>
          <p:nvSpPr>
            <p:cNvPr id="207" name=""/>
            <p:cNvSpPr/>
            <p:nvPr/>
          </p:nvSpPr>
          <p:spPr>
            <a:xfrm>
              <a:off x="5029200" y="2057400"/>
              <a:ext cx="236232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cce29"/>
                </a:gs>
              </a:gsLst>
              <a:lin ang="5400000"/>
            </a:gradFill>
            <a:ln w="38160">
              <a:solidFill>
                <a:srgbClr val="ff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99040" y="2133720"/>
              <a:ext cx="22226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e40011"/>
                  </a:solidFill>
                  <a:latin typeface="Arial"/>
                </a:rPr>
                <a:t>Jan Hu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863640" y="3505320"/>
            <a:ext cx="1295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00063"/>
                </a:solidFill>
                <a:latin typeface="Symbol"/>
                <a:ea typeface="Symbol"/>
              </a:rPr>
              <a:t></a:t>
            </a:r>
            <a:r>
              <a:rPr b="1" lang="en-US" sz="1500" spc="-1" strike="noStrike">
                <a:solidFill>
                  <a:srgbClr val="100063"/>
                </a:solidFill>
                <a:latin typeface="Arial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100063"/>
                </a:solidFill>
                <a:latin typeface="Symbol"/>
                <a:ea typeface="Symbol"/>
              </a:rPr>
              <a:t></a:t>
            </a:r>
            <a:r>
              <a:rPr b="1" lang="en-US" sz="1500" spc="-1" strike="noStrike">
                <a:solidFill>
                  <a:srgbClr val="100063"/>
                </a:solidFill>
                <a:latin typeface="Arial"/>
              </a:rPr>
              <a:t>promoted English Bi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52480" y="4268880"/>
            <a:ext cx="1676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00063"/>
                </a:solidFill>
                <a:latin typeface="Symbol"/>
                <a:ea typeface="Symbol"/>
              </a:rPr>
              <a:t></a:t>
            </a:r>
            <a:r>
              <a:rPr b="1" lang="en-US" sz="1500" spc="-1" strike="noStrike">
                <a:solidFill>
                  <a:srgbClr val="100063"/>
                </a:solidFill>
                <a:latin typeface="Arial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100063"/>
                </a:solidFill>
                <a:latin typeface="Arial"/>
              </a:rPr>
              <a:t>banned, </a:t>
            </a:r>
            <a:br>
              <a:rPr sz="1500"/>
            </a:br>
            <a:r>
              <a:rPr b="1" lang="en-US" sz="1500" spc="-1" strike="noStrike">
                <a:solidFill>
                  <a:srgbClr val="100063"/>
                </a:solidFill>
                <a:latin typeface="Arial"/>
              </a:rPr>
              <a:t>not execut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95680" y="3902040"/>
            <a:ext cx="1447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00063"/>
                </a:solidFill>
                <a:latin typeface="Symbol"/>
                <a:ea typeface="Symbol"/>
              </a:rPr>
              <a:t></a:t>
            </a:r>
            <a:r>
              <a:rPr b="1" lang="en-US" sz="1500" spc="-1" strike="noStrike">
                <a:solidFill>
                  <a:srgbClr val="100063"/>
                </a:solidFill>
                <a:latin typeface="Arial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100063"/>
                </a:solidFill>
                <a:latin typeface="Symbol"/>
                <a:ea typeface="Symbol"/>
              </a:rPr>
              <a:t></a:t>
            </a:r>
            <a:r>
              <a:rPr b="1" lang="en-US" sz="1500" spc="-1" strike="noStrike">
                <a:solidFill>
                  <a:srgbClr val="100063"/>
                </a:solidFill>
                <a:latin typeface="Arial"/>
              </a:rPr>
              <a:t>accused of heres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52680" y="3581280"/>
            <a:ext cx="1295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00063"/>
                </a:solidFill>
                <a:latin typeface="Symbol"/>
                <a:ea typeface="Symbol"/>
              </a:rPr>
              <a:t></a:t>
            </a:r>
            <a:r>
              <a:rPr b="1" lang="en-US" sz="1500" spc="-1" strike="noStrike">
                <a:solidFill>
                  <a:srgbClr val="100063"/>
                </a:solidFill>
                <a:latin typeface="Arial"/>
              </a:rPr>
              <a:t>attacked church abus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19920" y="4114800"/>
            <a:ext cx="1218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00063"/>
                </a:solidFill>
                <a:latin typeface="Symbol"/>
                <a:ea typeface="Symbol"/>
              </a:rPr>
              <a:t></a:t>
            </a:r>
            <a:r>
              <a:rPr b="1" lang="en-US" sz="1500" spc="-1" strike="noStrike">
                <a:solidFill>
                  <a:srgbClr val="100063"/>
                </a:solidFill>
                <a:latin typeface="Arial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100063"/>
                </a:solidFill>
                <a:latin typeface="Arial"/>
              </a:rPr>
              <a:t>burned at the stak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04920" y="60948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apter Wrap-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2057400"/>
            <a:ext cx="7315200" cy="32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f01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How did the Crusades promote an exchange of ideas and good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How did the growth of trade and towns bring changes to the feudal and manorial system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What groups lost power as Europe’s kings established strong nation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rebuchet MS"/>
              </a:rPr>
              <a:t>CHAPTER 1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rebuchet MS"/>
              </a:rPr>
              <a:t>SECTION 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14560" y="1676520"/>
            <a:ext cx="69627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1ce00"/>
                </a:solidFill>
                <a:latin typeface="Times New Roman"/>
              </a:rPr>
              <a:t>Question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causes and effects led to the First Crusad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609480"/>
            <a:ext cx="7543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Crusa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rebuchet MS"/>
              </a:rPr>
              <a:t>SECTION 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609480"/>
            <a:ext cx="7543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Crusa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08240" y="4309920"/>
            <a:ext cx="2722320" cy="1319400"/>
            <a:chOff x="1308240" y="4309920"/>
            <a:chExt cx="2722320" cy="1319400"/>
          </a:xfrm>
        </p:grpSpPr>
        <p:sp>
          <p:nvSpPr>
            <p:cNvPr id="53" name=""/>
            <p:cNvSpPr/>
            <p:nvPr/>
          </p:nvSpPr>
          <p:spPr>
            <a:xfrm>
              <a:off x="1308240" y="4309920"/>
              <a:ext cx="2722320" cy="13194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34cb00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71600" y="4422600"/>
              <a:ext cx="2209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007b"/>
                  </a:solidFill>
                  <a:latin typeface="Arial"/>
                </a:rPr>
                <a:t>Some 10,000 Europeans take up the caus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308240" y="2133720"/>
            <a:ext cx="3720960" cy="1320840"/>
            <a:chOff x="1308240" y="2133720"/>
            <a:chExt cx="3720960" cy="1320840"/>
          </a:xfrm>
        </p:grpSpPr>
        <p:grpSp>
          <p:nvGrpSpPr>
            <p:cNvPr id="56" name=""/>
            <p:cNvGrpSpPr/>
            <p:nvPr/>
          </p:nvGrpSpPr>
          <p:grpSpPr>
            <a:xfrm>
              <a:off x="1308240" y="2133720"/>
              <a:ext cx="2724120" cy="1320840"/>
              <a:chOff x="1308240" y="2133720"/>
              <a:chExt cx="2724120" cy="1320840"/>
            </a:xfrm>
          </p:grpSpPr>
          <p:sp>
            <p:nvSpPr>
              <p:cNvPr id="57" name=""/>
              <p:cNvSpPr/>
              <p:nvPr/>
            </p:nvSpPr>
            <p:spPr>
              <a:xfrm>
                <a:off x="1308240" y="2133720"/>
                <a:ext cx="2724120" cy="132084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34cb00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373040" y="2246400"/>
                <a:ext cx="25894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29007b"/>
                    </a:solidFill>
                    <a:latin typeface="Arial"/>
                  </a:rPr>
                  <a:t>Turks gain control of Palestine and threaten Constantinople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4038480" y="2590920"/>
              <a:ext cx="990720" cy="228600"/>
            </a:xfrm>
            <a:prstGeom prst="rightArrow">
              <a:avLst>
                <a:gd name="adj1" fmla="val 50000"/>
                <a:gd name="adj2" fmla="val 198635"/>
              </a:avLst>
            </a:prstGeom>
            <a:solidFill>
              <a:srgbClr val="ffd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128840" y="4317840"/>
            <a:ext cx="3719880" cy="1320840"/>
            <a:chOff x="4128840" y="4317840"/>
            <a:chExt cx="3719880" cy="1320840"/>
          </a:xfrm>
        </p:grpSpPr>
        <p:sp>
          <p:nvSpPr>
            <p:cNvPr id="61" name=""/>
            <p:cNvSpPr/>
            <p:nvPr/>
          </p:nvSpPr>
          <p:spPr>
            <a:xfrm>
              <a:off x="5124600" y="4317840"/>
              <a:ext cx="2724120" cy="13208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34cb00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189400" y="4430880"/>
              <a:ext cx="2525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007b"/>
                  </a:solidFill>
                  <a:latin typeface="Arial"/>
                </a:rPr>
                <a:t>Pope Urban asks European lords to free the Holy Lands from the Turk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128480" y="4800600"/>
              <a:ext cx="990360" cy="228600"/>
            </a:xfrm>
            <a:prstGeom prst="rightArrow">
              <a:avLst>
                <a:gd name="adj1" fmla="val 50000"/>
                <a:gd name="adj2" fmla="val 198563"/>
              </a:avLst>
            </a:prstGeom>
            <a:solidFill>
              <a:srgbClr val="ffd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124600" y="2133720"/>
            <a:ext cx="2724120" cy="2137320"/>
            <a:chOff x="5124600" y="2133720"/>
            <a:chExt cx="2724120" cy="2137320"/>
          </a:xfrm>
        </p:grpSpPr>
        <p:sp>
          <p:nvSpPr>
            <p:cNvPr id="65" name=""/>
            <p:cNvSpPr/>
            <p:nvPr/>
          </p:nvSpPr>
          <p:spPr>
            <a:xfrm>
              <a:off x="5124600" y="2133720"/>
              <a:ext cx="2724120" cy="13208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34cb00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89400" y="2246400"/>
              <a:ext cx="2449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007b"/>
                  </a:solidFill>
                  <a:latin typeface="Arial"/>
                </a:rPr>
                <a:t>The emperor asks the pope for help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5420400">
              <a:off x="6131160" y="3753360"/>
              <a:ext cx="820800" cy="212760"/>
            </a:xfrm>
            <a:prstGeom prst="rightArrow">
              <a:avLst>
                <a:gd name="adj1" fmla="val 50324"/>
                <a:gd name="adj2" fmla="val 173764"/>
              </a:avLst>
            </a:prstGeom>
            <a:solidFill>
              <a:srgbClr val="ffd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4920" y="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rebuchet MS"/>
              </a:rPr>
              <a:t>SECTION 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14560" y="1676520"/>
            <a:ext cx="696276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007"/>
                </a:solidFill>
                <a:latin typeface="Times New Roman"/>
              </a:rPr>
              <a:t>Qu</a:t>
            </a:r>
            <a:r>
              <a:rPr b="1" lang="en-US" sz="6000" spc="-1" strike="noStrike">
                <a:solidFill>
                  <a:srgbClr val="ff9900"/>
                </a:solidFill>
                <a:latin typeface="Times New Roman"/>
              </a:rPr>
              <a:t>e</a:t>
            </a:r>
            <a:r>
              <a:rPr b="1" lang="en-US" sz="6000" spc="-1" strike="noStrike">
                <a:solidFill>
                  <a:srgbClr val="ff9007"/>
                </a:solidFill>
                <a:latin typeface="Times New Roman"/>
              </a:rPr>
              <a:t>stion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were some reasons for the revival of trade in Europ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609480"/>
            <a:ext cx="7543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Revival of Tr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920" y="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rebuchet MS"/>
              </a:rPr>
              <a:t>SECTION 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609480"/>
            <a:ext cx="7543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Revival of Tr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429000" y="3733920"/>
            <a:ext cx="2438280" cy="685800"/>
            <a:chOff x="3429000" y="3733920"/>
            <a:chExt cx="2438280" cy="685800"/>
          </a:xfrm>
        </p:grpSpPr>
        <p:sp>
          <p:nvSpPr>
            <p:cNvPr id="76" name=""/>
            <p:cNvSpPr/>
            <p:nvPr/>
          </p:nvSpPr>
          <p:spPr>
            <a:xfrm>
              <a:off x="3429000" y="3733920"/>
              <a:ext cx="2438280" cy="685800"/>
            </a:xfrm>
            <a:prstGeom prst="rect">
              <a:avLst/>
            </a:prstGeom>
            <a:solidFill>
              <a:srgbClr val="020a7f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04960" y="3892680"/>
              <a:ext cx="227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 Black"/>
                </a:rPr>
                <a:t>Revival of Tra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09480" y="2438280"/>
            <a:ext cx="3095640" cy="1289160"/>
            <a:chOff x="609480" y="2438280"/>
            <a:chExt cx="3095640" cy="1289160"/>
          </a:xfrm>
        </p:grpSpPr>
        <p:sp>
          <p:nvSpPr>
            <p:cNvPr id="79" name=""/>
            <p:cNvSpPr/>
            <p:nvPr/>
          </p:nvSpPr>
          <p:spPr>
            <a:xfrm>
              <a:off x="2851200" y="3301920"/>
              <a:ext cx="853920" cy="425520"/>
            </a:xfrm>
            <a:prstGeom prst="line">
              <a:avLst/>
            </a:prstGeom>
            <a:ln w="316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609480" y="2438280"/>
              <a:ext cx="2438280" cy="1123920"/>
              <a:chOff x="609480" y="2438280"/>
              <a:chExt cx="2438280" cy="1123920"/>
            </a:xfrm>
          </p:grpSpPr>
          <p:sp>
            <p:nvSpPr>
              <p:cNvPr id="81" name=""/>
              <p:cNvSpPr/>
              <p:nvPr/>
            </p:nvSpPr>
            <p:spPr>
              <a:xfrm>
                <a:off x="609480" y="2438280"/>
                <a:ext cx="2438280" cy="1123920"/>
              </a:xfrm>
              <a:prstGeom prst="ellipse">
                <a:avLst/>
              </a:prstGeom>
              <a:solidFill>
                <a:srgbClr val="020a7f"/>
              </a:solidFill>
              <a:ln w="316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15680" y="2704680"/>
                <a:ext cx="22132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he Crusades stimulated trade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" name=""/>
          <p:cNvGrpSpPr/>
          <p:nvPr/>
        </p:nvGrpSpPr>
        <p:grpSpPr>
          <a:xfrm>
            <a:off x="5583240" y="2152800"/>
            <a:ext cx="3040200" cy="1573200"/>
            <a:chOff x="5583240" y="2152800"/>
            <a:chExt cx="3040200" cy="1573200"/>
          </a:xfrm>
        </p:grpSpPr>
        <p:sp>
          <p:nvSpPr>
            <p:cNvPr id="84" name=""/>
            <p:cNvSpPr/>
            <p:nvPr/>
          </p:nvSpPr>
          <p:spPr>
            <a:xfrm flipH="1">
              <a:off x="5583240" y="3324240"/>
              <a:ext cx="797040" cy="401760"/>
            </a:xfrm>
            <a:prstGeom prst="line">
              <a:avLst/>
            </a:prstGeom>
            <a:ln w="316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6184800" y="2152800"/>
              <a:ext cx="2438640" cy="1523880"/>
              <a:chOff x="6184800" y="2152800"/>
              <a:chExt cx="2438640" cy="1523880"/>
            </a:xfrm>
          </p:grpSpPr>
          <p:sp>
            <p:nvSpPr>
              <p:cNvPr id="86" name=""/>
              <p:cNvSpPr/>
              <p:nvPr/>
            </p:nvSpPr>
            <p:spPr>
              <a:xfrm>
                <a:off x="6184800" y="2152800"/>
                <a:ext cx="2438640" cy="1523880"/>
              </a:xfrm>
              <a:prstGeom prst="ellipse">
                <a:avLst/>
              </a:prstGeom>
              <a:solidFill>
                <a:srgbClr val="020a7f"/>
              </a:solidFill>
              <a:ln w="316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76960" y="2355840"/>
                <a:ext cx="2212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Viking ships brought Asian goods to northern Europe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" name=""/>
          <p:cNvGrpSpPr/>
          <p:nvPr/>
        </p:nvGrpSpPr>
        <p:grpSpPr>
          <a:xfrm>
            <a:off x="457200" y="4416480"/>
            <a:ext cx="3219120" cy="1450800"/>
            <a:chOff x="457200" y="4416480"/>
            <a:chExt cx="3219120" cy="1450800"/>
          </a:xfrm>
        </p:grpSpPr>
        <p:sp>
          <p:nvSpPr>
            <p:cNvPr id="89" name=""/>
            <p:cNvSpPr/>
            <p:nvPr/>
          </p:nvSpPr>
          <p:spPr>
            <a:xfrm flipH="1">
              <a:off x="2927160" y="4416480"/>
              <a:ext cx="749160" cy="377640"/>
            </a:xfrm>
            <a:prstGeom prst="line">
              <a:avLst/>
            </a:prstGeom>
            <a:ln w="316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457200" y="4648320"/>
              <a:ext cx="2971800" cy="1218960"/>
              <a:chOff x="457200" y="4648320"/>
              <a:chExt cx="2971800" cy="1218960"/>
            </a:xfrm>
          </p:grpSpPr>
          <p:sp>
            <p:nvSpPr>
              <p:cNvPr id="91" name=""/>
              <p:cNvSpPr/>
              <p:nvPr/>
            </p:nvSpPr>
            <p:spPr>
              <a:xfrm>
                <a:off x="457200" y="4648320"/>
                <a:ext cx="2971800" cy="1218960"/>
              </a:xfrm>
              <a:prstGeom prst="ellipse">
                <a:avLst/>
              </a:prstGeom>
              <a:solidFill>
                <a:srgbClr val="020a7f"/>
              </a:solidFill>
              <a:ln w="316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76360" y="4840200"/>
                <a:ext cx="2714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Flanders became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a meeting center of different trade route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5581800" y="4425840"/>
            <a:ext cx="2879640" cy="1441440"/>
            <a:chOff x="5581800" y="4425840"/>
            <a:chExt cx="2879640" cy="1441440"/>
          </a:xfrm>
        </p:grpSpPr>
        <p:sp>
          <p:nvSpPr>
            <p:cNvPr id="94" name=""/>
            <p:cNvSpPr/>
            <p:nvPr/>
          </p:nvSpPr>
          <p:spPr>
            <a:xfrm>
              <a:off x="5581800" y="4425840"/>
              <a:ext cx="825480" cy="520920"/>
            </a:xfrm>
            <a:prstGeom prst="line">
              <a:avLst/>
            </a:prstGeom>
            <a:ln w="316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6248520" y="4572000"/>
              <a:ext cx="2212920" cy="1295280"/>
              <a:chOff x="6248520" y="4572000"/>
              <a:chExt cx="2212920" cy="1295280"/>
            </a:xfrm>
          </p:grpSpPr>
          <p:sp>
            <p:nvSpPr>
              <p:cNvPr id="96" name=""/>
              <p:cNvSpPr/>
              <p:nvPr/>
            </p:nvSpPr>
            <p:spPr>
              <a:xfrm>
                <a:off x="6299280" y="4572000"/>
                <a:ext cx="2133360" cy="1295280"/>
              </a:xfrm>
              <a:prstGeom prst="ellipse">
                <a:avLst/>
              </a:prstGeom>
              <a:solidFill>
                <a:srgbClr val="020a7f"/>
              </a:solidFill>
              <a:ln w="316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248520" y="4813200"/>
                <a:ext cx="2212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he Hanseatic League set up trading post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" name=""/>
          <p:cNvGrpSpPr/>
          <p:nvPr/>
        </p:nvGrpSpPr>
        <p:grpSpPr>
          <a:xfrm>
            <a:off x="3352680" y="1676520"/>
            <a:ext cx="2438280" cy="2038320"/>
            <a:chOff x="3352680" y="1676520"/>
            <a:chExt cx="2438280" cy="2038320"/>
          </a:xfrm>
        </p:grpSpPr>
        <p:sp>
          <p:nvSpPr>
            <p:cNvPr id="99" name=""/>
            <p:cNvSpPr/>
            <p:nvPr/>
          </p:nvSpPr>
          <p:spPr>
            <a:xfrm>
              <a:off x="4572000" y="2819520"/>
              <a:ext cx="1440" cy="895320"/>
            </a:xfrm>
            <a:prstGeom prst="line">
              <a:avLst/>
            </a:prstGeom>
            <a:ln w="316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3352680" y="1676520"/>
              <a:ext cx="2438280" cy="1218960"/>
              <a:chOff x="3352680" y="1676520"/>
              <a:chExt cx="2438280" cy="1218960"/>
            </a:xfrm>
          </p:grpSpPr>
          <p:sp>
            <p:nvSpPr>
              <p:cNvPr id="101" name=""/>
              <p:cNvSpPr/>
              <p:nvPr/>
            </p:nvSpPr>
            <p:spPr>
              <a:xfrm>
                <a:off x="3352680" y="1676520"/>
                <a:ext cx="2438280" cy="1218960"/>
              </a:xfrm>
              <a:prstGeom prst="ellipse">
                <a:avLst/>
              </a:prstGeom>
              <a:solidFill>
                <a:srgbClr val="020a7f"/>
              </a:solidFill>
              <a:ln w="316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457440" y="1857240"/>
                <a:ext cx="2212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Italian ships brought goods back from Asia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920" y="596880"/>
            <a:ext cx="5486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Israel and the Occupied Territor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4920" y="1260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rebuchet MS"/>
              </a:rPr>
              <a:t>SECTION 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14560" y="1676520"/>
            <a:ext cx="71913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294ff"/>
                </a:solidFill>
                <a:latin typeface="Times New Roman"/>
              </a:rPr>
              <a:t>Question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factors contributed to the decline of serfd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609480"/>
            <a:ext cx="7543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Growth of Tow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04920" y="1260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rebuchet MS"/>
              </a:rPr>
              <a:t>SECTION 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609480"/>
            <a:ext cx="7543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Growth of Tow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420920" y="2068560"/>
            <a:ext cx="6122520" cy="3341520"/>
            <a:chOff x="1420920" y="2068560"/>
            <a:chExt cx="6122520" cy="3341520"/>
          </a:xfrm>
        </p:grpSpPr>
        <p:sp>
          <p:nvSpPr>
            <p:cNvPr id="112" name=""/>
            <p:cNvSpPr/>
            <p:nvPr/>
          </p:nvSpPr>
          <p:spPr>
            <a:xfrm>
              <a:off x="1420920" y="2068560"/>
              <a:ext cx="6121080" cy="3340080"/>
            </a:xfrm>
            <a:prstGeom prst="rect">
              <a:avLst/>
            </a:prstGeom>
            <a:gradFill rotWithShape="0">
              <a:gsLst>
                <a:gs pos="0">
                  <a:srgbClr val="0f0163"/>
                </a:gs>
                <a:gs pos="100000">
                  <a:srgbClr val="0529ba"/>
                </a:gs>
              </a:gsLst>
              <a:lin ang="5400000"/>
            </a:gra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625800" y="2589120"/>
              <a:ext cx="1080" cy="282096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20920" y="2589120"/>
              <a:ext cx="6121080" cy="18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46120" y="3122640"/>
              <a:ext cx="6081480" cy="144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446120" y="4643640"/>
              <a:ext cx="6097320" cy="288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46120" y="3884760"/>
              <a:ext cx="6089400" cy="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573200" y="2117880"/>
            <a:ext cx="58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205"/>
                </a:solidFill>
                <a:latin typeface="Arial Black"/>
              </a:rPr>
              <a:t>The Decline of Serf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36840" y="2693880"/>
            <a:ext cx="501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fs could leave for tow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36840" y="3225960"/>
            <a:ext cx="501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fs could earn money by selling crops to townspeop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36840" y="3975120"/>
            <a:ext cx="49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nging agricultural methods pushed them off the la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36840" y="4722840"/>
            <a:ext cx="501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Black Death killed many people in Europe so the demand for workers increas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04920" y="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rebuchet MS"/>
              </a:rPr>
              <a:t>SECTION 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14560" y="1676520"/>
            <a:ext cx="719136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71073"/>
                </a:solidFill>
                <a:latin typeface="Times New Roman"/>
              </a:rPr>
              <a:t>Question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are some types of literature that were common in the Middle Ag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3360" y="609480"/>
            <a:ext cx="5486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Life and Culture in th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Middle 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940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304920" y="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rebuchet MS"/>
              </a:rPr>
              <a:t>SECTION 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3360" y="609480"/>
            <a:ext cx="5486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Life and Culture in th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Middle 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193760" y="1614600"/>
            <a:ext cx="6759720" cy="4448160"/>
            <a:chOff x="1193760" y="1614600"/>
            <a:chExt cx="6759720" cy="4448160"/>
          </a:xfrm>
        </p:grpSpPr>
        <p:sp>
          <p:nvSpPr>
            <p:cNvPr id="131" name=""/>
            <p:cNvSpPr/>
            <p:nvPr/>
          </p:nvSpPr>
          <p:spPr>
            <a:xfrm>
              <a:off x="1193760" y="1614600"/>
              <a:ext cx="6757920" cy="4446360"/>
            </a:xfrm>
            <a:prstGeom prst="rect">
              <a:avLst/>
            </a:prstGeom>
            <a:solidFill>
              <a:srgbClr val="0f0163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52680" y="2082960"/>
              <a:ext cx="0" cy="39798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93760" y="2071800"/>
              <a:ext cx="6746760" cy="14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93760" y="2604960"/>
              <a:ext cx="6726240" cy="324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93760" y="4738680"/>
              <a:ext cx="6757920" cy="144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57840" y="2068560"/>
              <a:ext cx="0" cy="39942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1219320" y="3184560"/>
              <a:ext cx="6734160" cy="144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19320" y="5284800"/>
              <a:ext cx="6726240" cy="144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19320" y="3943440"/>
              <a:ext cx="6721200" cy="144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462480" y="2624040"/>
            <a:ext cx="22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007"/>
                </a:solidFill>
                <a:latin typeface="Arial"/>
              </a:rPr>
              <a:t>poems about love and chival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62480" y="320184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400"/>
                </a:solidFill>
                <a:latin typeface="Arial"/>
              </a:rPr>
              <a:t>fictional stories, sometimes of hero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62480" y="397980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400"/>
                </a:solidFill>
                <a:latin typeface="Arial"/>
              </a:rPr>
              <a:t>short comic stories written in rhymed ver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261936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oubadour so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09680" y="320364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oma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09680" y="47530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ational ep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317600" y="2073240"/>
            <a:ext cx="5481000" cy="520200"/>
            <a:chOff x="1317600" y="2073240"/>
            <a:chExt cx="5481000" cy="520200"/>
          </a:xfrm>
        </p:grpSpPr>
        <p:sp>
          <p:nvSpPr>
            <p:cNvPr id="147" name=""/>
            <p:cNvSpPr/>
            <p:nvPr/>
          </p:nvSpPr>
          <p:spPr>
            <a:xfrm>
              <a:off x="1317600" y="2073240"/>
              <a:ext cx="177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30011"/>
                  </a:solidFill>
                  <a:latin typeface="Arial"/>
                </a:rPr>
                <a:t>Kind </a:t>
              </a:r>
              <a:br>
                <a:rPr sz="1400"/>
              </a:br>
              <a:r>
                <a:rPr b="1" lang="en-US" sz="1400" spc="-1" strike="noStrike">
                  <a:solidFill>
                    <a:srgbClr val="e30011"/>
                  </a:solidFill>
                  <a:latin typeface="Arial"/>
                </a:rPr>
                <a:t>of Litera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81200" y="2208240"/>
              <a:ext cx="146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30011"/>
                  </a:solidFill>
                  <a:latin typeface="Arial"/>
                </a:rPr>
                <a:t>Characteristi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84920" y="2208240"/>
              <a:ext cx="91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30011"/>
                  </a:solidFill>
                  <a:latin typeface="Arial"/>
                </a:rPr>
                <a:t>Examp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5865840" y="262080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ve so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65840" y="3200400"/>
            <a:ext cx="181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ing Arthur and his Knights of the Round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5840" y="3967200"/>
            <a:ext cx="183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ynard the Fox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09680" y="162864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e00"/>
                </a:solidFill>
                <a:latin typeface="Arial Black"/>
              </a:rPr>
              <a:t>Vernacular Literature in the Middle 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14360" y="39765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fabli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09680" y="530064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iracle, morality, and mystery pl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62480" y="47530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400"/>
                </a:solidFill>
                <a:latin typeface="Arial"/>
              </a:rPr>
              <a:t>long poem about a h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62480" y="530064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400"/>
                </a:solidFill>
                <a:latin typeface="Arial"/>
              </a:rPr>
              <a:t>short dramas with religious or Biblical the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7280" y="47530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he Song of Ro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530064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ah’s Floo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1:47:48Z</dcterms:created>
  <dc:creator>megan rucker</dc:creator>
  <dc:description/>
  <dc:language>en-US</dc:language>
  <cp:lastModifiedBy>HRW</cp:lastModifiedBy>
  <dcterms:modified xsi:type="dcterms:W3CDTF">2002-06-14T22:28:06Z</dcterms:modified>
  <cp:revision>32</cp:revision>
  <dc:subject/>
  <dc:title>PowerPoint Presentation</dc:title>
</cp:coreProperties>
</file>